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0697-4678-4046-9FB3-2B4D4952E3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C6F-B518-4F15-871E-567FB743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B461-0662-40E5-95B0-86FB4F6D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543-ECA6-4BFD-868E-A0A61AE8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FE2-B7B4-49BC-9E69-C39C3A35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FC4-D16E-4EF5-AAC9-FEB1CAA7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16E-DC97-4B8F-91BF-7260BF22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D19-C2D2-4611-8C91-5956B5D1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F016-0185-44FD-867B-119B7EC3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E69-F79B-4D21-B1B6-075C63A9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24CB-2F4B-482D-A9FB-4B9732F6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95F-7395-4AB5-94F8-6E5833C7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876-95C9-44F0-8CD2-1B5972A9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B66D-5987-452E-9D31-A58D636CE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exam will be on Friday, October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8-03-22T08:51:30Z</dcterms:modified>
  <cp:revision>11</cp:revision>
  <dc:subject/>
  <dc:title>Outer Layers of the Sun</dc:title>
</cp:coreProperties>
</file>